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 participants to move to their preferred cor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cuss their choice with others in thei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rief as a who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ovide scaffolding questions to the participant acting as the one giving feedba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does one-half mean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f you changed the whole? How would you show one-hal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caffold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do you know your model matches the fr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can a group of objects be described using a fr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CEAE-9364-4262-9AB0-9748591CE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5A74-4796-495D-BBEC-F4C91A1A6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19D9-0633-4C14-8E04-8F61E34AB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211B-1C69-436F-BDA9-E704F0C45D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0E82-1CF4-42DE-8560-699718C8AF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9981-12B9-4EBF-8A9C-A0A131748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8F3C-5927-42E6-AF9A-0445B749C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CE9D-5E1F-4810-8941-1BFC910ED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9B3A-C84F-41EE-85A0-AF317362C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CE5E-75C6-4A8E-810B-DBCF9B157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ACA1-DEC8-49B8-8579-33A92E0BA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8DA3-A564-423C-9C73-20BDE4139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0008-E2AB-4D37-98B6-F318761683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media28.onsugar.com/files/2011/07/27/2/1798/17983473/image.gif&amp;imgrefurl=http://www.thefishpictures.info/tag/Fish-Picturs%3Fpage%3D6&amp;usg=__xEmn0waa8pOxzazDL134M6NfUjk=&amp;h=534&amp;w=490&amp;sz=13&amp;hl=en&amp;start=23&amp;sig2=dZSBiI3p26FTTMWfcxtGvw&amp;zoom=1&amp;tbnid=afjVyP80QjIANM:&amp;tbnh=132&amp;tbnw=121&amp;ei=o4RGTrC-IcLz0gGcp53gBw&amp;prev=/search%3Fq%3Dfishing%2Bcartoon%2Bclip%2Bart%26start%3D21%26hl%3Den%26sa%3DN%26biw%3D1260%26bih%3D603%26gbv%3D2%26tbm%3Disch&amp;itbs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E408-3004-4F24-A9C5-63BE480518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elcome to the Fishing Shack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Minds-On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862B-D233-4A5D-904A-9553609CAA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E7D3-625A-47D4-94E5-E3383934DC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371600"/>
            <a:ext cx="84582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Four Corn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333399"/>
                </a:solidFill>
                <a:latin typeface="Arial"/>
              </a:rPr>
              <a:t>Giving students verbal feedback is most lik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a piece of cak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firework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roller coaster, 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deep water div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228600"/>
            <a:ext cx="135108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ction: Triads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e Power of Observ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71A2-0803-4FC0-8DC4-72CD052870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057400"/>
            <a:ext cx="7924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In groups of thr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one person will solve the problem pres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one person will provide verbal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one person will act as observer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If time allows, rotate roles within your tri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roblem 1: Representing ½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A056-4C21-42A2-B7D6-A4857E2B25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60020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3399"/>
                </a:solidFill>
                <a:latin typeface="Arial"/>
              </a:rPr>
              <a:t>Show ½ as many ways as you can using a variety of manipulati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3399"/>
                </a:solidFill>
                <a:latin typeface="Arial"/>
              </a:rPr>
              <a:t>Record your thinking on the blank paper provided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roblem 2: Representing fractions of a whole or set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A8E1-9D04-418A-9210-9D980EBA07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676520"/>
            <a:ext cx="769608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Arial"/>
              </a:rPr>
              <a:t>Using the different manipulatives or  classroom materials, create as many models as you can for one of these fraction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en-CA" sz="4000" spc="-1" strike="noStrike">
                <a:solidFill>
                  <a:srgbClr val="333399"/>
                </a:solidFill>
                <a:latin typeface="Arial"/>
              </a:rPr>
              <a:t>¼,   2/3, or   3/5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Record your examples.</a:t>
            </a:r>
            <a:r>
              <a:rPr b="1" lang="en-CA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In your journal, record the scaffolding questions you used or li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How did the scaffolding questions help the person working on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What did you typically think scaffolding questions would sound like? Has your thinking chang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        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i="1" lang="en-CA" sz="3200" spc="-1" strike="noStrike">
                <a:solidFill>
                  <a:srgbClr val="333399"/>
                </a:solidFill>
                <a:latin typeface="Arial"/>
              </a:rPr>
              <a:t>Give a person (man) a fish, he eats for a day. Teach a person (man) to fish, and he feeds her/himself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List three key learnings about observing and responding to stud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Arial"/>
              </a:rPr>
              <a:t>Share.  Select one reflection from your   table group, record onto a fish note and post under the quote.  Attach your fishing mesh    onto your hat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304920"/>
            <a:ext cx="1152360" cy="125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SoftXP</cp:lastModifiedBy>
  <dcterms:modified xsi:type="dcterms:W3CDTF">2011-08-17T21:03:33Z</dcterms:modified>
  <cp:revision>14</cp:revision>
  <dc:subject/>
  <dc:title>&lt;Title&gt;</dc:title>
</cp:coreProperties>
</file>